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wmf" ContentType="image/x-wmf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145-9A1B-460A-AA87-9B1D7064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240-6ACE-44FA-89EC-E18A08BC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D94-7B61-4A3F-A040-D0C9D215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F5E-64EE-4C22-84E6-8C676975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B20E-0A31-4667-BA8A-7DFC3302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5E5F-DBFB-4B95-993C-574FDD6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8FBE-5D69-4396-B3F6-B46CAD34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D7C-8FBD-49AD-B3CF-E7CC9AA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C62E-BE62-49ED-910A-07D5DC13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350-503C-438B-8D79-4046FE0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B19-415C-4200-8EB1-B0F3A8A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37C-05D3-4A08-882D-E26A6ACA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F06C-61A7-4752-91E1-7340E10C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BF8F-8811-4179-853E-E98D03B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8704-FC5C-45AE-87A4-F8EF876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611A-2683-412F-BBC1-35EB0F8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232-7650-4236-893E-DD3D14AA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9BF8-04FF-4005-AA8C-A235F13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0E7C-39E7-4D03-A5B5-4050F32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EAE6-567F-4AE1-99AE-9D8B951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C9E5-D1EC-4745-99C8-C9BE09F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B275-4C51-43A2-9DEA-9001431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C1B-1E7C-4E80-B3FB-C94038F3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DCB2-1260-4234-84F0-289E10ED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3F2D-884E-4F9C-9A69-D141442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1DB1-E119-438E-A5FC-52775D2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96E4-6B7A-424C-A943-4191EB9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74B3-0E67-4B7A-9890-593AB7B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EE39-280A-4D1C-883C-36AED820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830-1D24-406F-B1E7-DC749C79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494A-D91B-4F52-96AA-ACC4C755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29F9-54F6-4DE5-AFA2-1E1737E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EADD-0EE0-4504-9FDC-90E4690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342-E61E-4866-9F01-38595D3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6D04-D9D5-401D-B115-F69EC07A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BEC4-9155-4639-9D60-A210605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BDEB-FF1F-4018-ABC0-E9C60C41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67A0-8DAC-4794-8155-7B511B2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B971-878B-474F-A957-F9FD9B9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A2A1-079D-4687-913D-0C03AA6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82D2-0617-4DF3-BFD9-F3221337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2198-DB72-4561-9E57-1D41F4C8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F99A-1543-41AC-92E3-290A0C33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FA4-AD2D-4A33-8B84-7F772607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8E4-54A9-4476-99C2-0DF900B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EDE-343B-456D-B50F-736624D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C6C-7853-4271-ACCE-7983A0E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45B-143D-4675-9572-46BF168B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D52-1762-4FF0-966F-2912FCEED6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8C2-AE3F-4A60-9809-EBA59599D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0" y="0"/>
            <a:ext cx="9144000" cy="344520"/>
          </a:xfrm>
          <a:prstGeom prst="rect">
            <a:avLst/>
          </a:prstGeom>
          <a:solidFill>
            <a:srgbClr val="6f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69d8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029040" y="6361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FB0-483B-4FAF-96E8-458FCABC9E42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1"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89bdba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344520"/>
            <a:ext cx="9144000" cy="138240"/>
          </a:xfrm>
          <a:prstGeom prst="rect">
            <a:avLst/>
          </a:prstGeom>
          <a:solidFill>
            <a:srgbClr val="df6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KSO_FD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f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2732040" y="1662120"/>
            <a:ext cx="3576600" cy="3578040"/>
          </a:xfrm>
          <a:prstGeom prst="ellipse">
            <a:avLst/>
          </a:prstGeom>
          <a:solidFill>
            <a:srgbClr val="eaeedf"/>
          </a:solidFill>
          <a:ln w="1260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1587600" y="2570040"/>
            <a:ext cx="5900760" cy="1947960"/>
          </a:xfrm>
          <a:prstGeom prst="rect">
            <a:avLst/>
          </a:prstGeom>
          <a:solidFill>
            <a:srgbClr val="df6165"/>
          </a:solidFill>
          <a:ln w="38160">
            <a:solidFill>
              <a:srgbClr val="eae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62040" y="2587680"/>
            <a:ext cx="5905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1738-5C79-427D-BEE9-EE453DFB78BF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KSO_FD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460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微软雅黑"/>
              </a:rPr>
              <a:t>Lesson 16   A Skating Lesson</a:t>
            </a:r>
            <a:endParaRPr b="1" lang="en-US" sz="3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9640" y="476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989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微软雅黑"/>
              </a:rPr>
              <a:t>Read the text quickly and answer the questions.</a:t>
            </a:r>
            <a:endParaRPr b="1" lang="en-US" sz="30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Danny sk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Li Ming sk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</a:rPr>
              <a:t>Read the text carefully and answer the questions.</a:t>
            </a:r>
            <a:endParaRPr b="1" lang="en-US" sz="32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What is Danny going to do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Is Danny early or l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Li Ming stand up on the ic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Does Li Ming learn fast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What happened to Danny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6fbfb2"/>
                </a:solidFill>
                <a:latin typeface="微软雅黑"/>
              </a:rPr>
              <a:t>What happened to Danny?</a:t>
            </a: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6fbfb2"/>
                </a:solidFill>
                <a:latin typeface="微软雅黑"/>
              </a:rPr>
              <a:t>He fell down.</a:t>
            </a: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27021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Look and say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you _____ 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Yes, I can. (No, I can’t)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I think I can.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00000" y="476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da xue zhang"/>
          <p:cNvPicPr/>
          <p:nvPr/>
        </p:nvPicPr>
        <p:blipFill>
          <a:blip r:embed="rId1"/>
          <a:stretch/>
        </p:blipFill>
        <p:spPr>
          <a:xfrm>
            <a:off x="3708360" y="765000"/>
            <a:ext cx="1728720" cy="129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ride"/>
          <p:cNvPicPr/>
          <p:nvPr/>
        </p:nvPicPr>
        <p:blipFill>
          <a:blip r:embed="rId2"/>
          <a:stretch/>
        </p:blipFill>
        <p:spPr>
          <a:xfrm>
            <a:off x="3635280" y="3357720"/>
            <a:ext cx="1190880" cy="178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tiao"/>
          <p:cNvPicPr/>
          <p:nvPr/>
        </p:nvPicPr>
        <p:blipFill>
          <a:blip r:embed="rId3"/>
          <a:stretch/>
        </p:blipFill>
        <p:spPr>
          <a:xfrm>
            <a:off x="826920" y="3284640"/>
            <a:ext cx="1398600" cy="1787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ake4"/>
          <p:cNvPicPr/>
          <p:nvPr/>
        </p:nvPicPr>
        <p:blipFill>
          <a:blip r:embed="rId4"/>
          <a:stretch/>
        </p:blipFill>
        <p:spPr>
          <a:xfrm>
            <a:off x="468360" y="692280"/>
            <a:ext cx="1800000" cy="13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U179P4T8D1440718F107DT20081107091048"/>
          <p:cNvPicPr/>
          <p:nvPr/>
        </p:nvPicPr>
        <p:blipFill>
          <a:blip r:embed="rId5"/>
          <a:srcRect l="0" t="0" r="-1856" b="16095"/>
          <a:stretch/>
        </p:blipFill>
        <p:spPr>
          <a:xfrm>
            <a:off x="6084720" y="342900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01100000000019115768543097164_s"/>
          <p:cNvPicPr/>
          <p:nvPr/>
        </p:nvPicPr>
        <p:blipFill>
          <a:blip r:embed="rId6"/>
          <a:srcRect l="0" t="0" r="302" b="3561"/>
          <a:stretch/>
        </p:blipFill>
        <p:spPr>
          <a:xfrm>
            <a:off x="6950160" y="836640"/>
            <a:ext cx="1703160" cy="1236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179280" y="2276640"/>
            <a:ext cx="24480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make a snow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500720" y="2276640"/>
            <a:ext cx="244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play snowb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2627280" y="2276640"/>
            <a:ext cx="151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7236000" y="2421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755640" y="5445000"/>
            <a:ext cx="1514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780000" y="5589720"/>
            <a:ext cx="151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6012000" y="5516640"/>
            <a:ext cx="151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Ask and answer. Then write.</a:t>
            </a:r>
            <a:r>
              <a:rPr b="1" lang="en-US" sz="2800" spc="-1" strike="noStrike">
                <a:solidFill>
                  <a:srgbClr val="469d8f"/>
                </a:solidFill>
                <a:latin typeface="微软雅黑"/>
              </a:rPr>
              <a:t> 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8229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Toda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s homework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6fbfb2"/>
              </a:solidFill>
              <a:latin typeface="微软雅黑"/>
            </a:endParaRPr>
          </a:p>
        </p:txBody>
      </p:sp>
      <p:pic>
        <p:nvPicPr>
          <p:cNvPr id="204" name="Object 7" descr=""/>
          <p:cNvPicPr/>
          <p:nvPr/>
        </p:nvPicPr>
        <p:blipFill>
          <a:blip r:embed="rId1"/>
          <a:stretch/>
        </p:blipFill>
        <p:spPr>
          <a:xfrm>
            <a:off x="0" y="4076640"/>
            <a:ext cx="1182600" cy="15336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9" descr=""/>
          <p:cNvPicPr/>
          <p:nvPr/>
        </p:nvPicPr>
        <p:blipFill>
          <a:blip r:embed="rId2"/>
          <a:stretch/>
        </p:blipFill>
        <p:spPr>
          <a:xfrm>
            <a:off x="0" y="2238480"/>
            <a:ext cx="1670040" cy="147780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11" descr=""/>
          <p:cNvPicPr/>
          <p:nvPr/>
        </p:nvPicPr>
        <p:blipFill>
          <a:blip r:embed="rId3"/>
          <a:stretch/>
        </p:blipFill>
        <p:spPr>
          <a:xfrm>
            <a:off x="611280" y="4164120"/>
            <a:ext cx="2160360" cy="1784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5508720" y="42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f2f2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13" descr=""/>
          <p:cNvPicPr/>
          <p:nvPr/>
        </p:nvPicPr>
        <p:blipFill>
          <a:blip r:embed="rId4"/>
          <a:stretch/>
        </p:blipFill>
        <p:spPr>
          <a:xfrm>
            <a:off x="5364000" y="2276640"/>
            <a:ext cx="1800360" cy="15840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14" descr=""/>
          <p:cNvPicPr/>
          <p:nvPr/>
        </p:nvPicPr>
        <p:blipFill>
          <a:blip r:embed="rId5"/>
          <a:stretch/>
        </p:blipFill>
        <p:spPr>
          <a:xfrm>
            <a:off x="831960" y="2205000"/>
            <a:ext cx="1711080" cy="1746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684360" y="1268280"/>
            <a:ext cx="777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Write a short story about sports you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00400" y="2384280"/>
            <a:ext cx="3460680" cy="24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  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0:54:58Z</dcterms:created>
  <dc:creator>冬爽</dc:creator>
  <dc:description/>
  <dc:language>en-US</dc:language>
  <cp:lastModifiedBy>admin</cp:lastModifiedBy>
  <dcterms:modified xsi:type="dcterms:W3CDTF">2015-12-11T06:43:04Z</dcterms:modified>
  <cp:revision>44</cp:revision>
  <dc:subject/>
  <dc:title>Lesson 21 A Skating Les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